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2E9-0688-480E-94E4-7CFF3409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6CB-03B0-450B-A293-B1E5FB6A9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79C-D66F-489B-9C05-8F8C2F67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88F-51D9-4000-ADEB-D384DAAC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D90-FCC6-4DFE-A9FF-772F0492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234-04C0-4ED0-A580-22A3B00C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B5C-7691-478E-94C7-CCA5E081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E50E-E4E5-4C94-B001-F1396F43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FE15-0137-412F-AC5E-B7D1F71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B80-7FE0-43E5-A266-1C2AD5F3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5DF8-6D62-407A-8922-C15BC6D6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A3C4-C501-4C91-8B3F-36F5C6EE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A462-6080-4EA7-9E9C-14741C3D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8FB-B701-4C91-A3DB-3C1BA61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D3C-4F15-485F-991D-C08F59D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B91-3D74-4DE9-AF92-8972C48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7F0C-9EF6-413C-B5F6-1DD9B81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0207-12AE-493B-948A-A87F5042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F11C-9368-4DAE-AE43-EE2D132B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F256-0C88-4CE6-93F5-7DBAF6FD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76661-8000-41E4-8AA9-255CE6D9D4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89BD0-8D30-48B2-91DF-8E067EFD6C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FDFA1-C674-4EBD-A073-AED3A82A9F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FE984-D578-41C4-89C1-EA7B16F528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C5AB6-3964-4EBF-91D6-9F2494A84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468-E0C5-4CEA-937F-C0C3073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BAB5F-9673-4857-8022-A7C477021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B3FF6-944B-4580-8389-B29F7B0B56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7E8EB-0F5E-44E4-BC83-99B30232A5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25C74-D4CB-4AF4-A941-73417B5F6C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0F993-5C79-4513-B960-EF837AC49A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AA9ED-1277-4F9F-9232-DC55869DBC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81F11-1CA7-43CA-B5F8-42001567D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4A5-CD31-4571-A5CC-160A7C72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64-F90C-40AE-B9FD-16C3F82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5AB-0F52-4100-844C-0D171EF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0C1-6C71-42F8-851F-E0B209A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49C-4F6F-4421-B4B5-0A9F117C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F03-4D49-46B0-8BFF-0322C9F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E90-378B-4D93-9089-CBEA36F5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5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7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8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9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67" name="Rectangle 3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8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9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10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1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12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13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4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15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80" name="Rectangle 16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17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18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Rectangle 19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20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21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3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Picture 24" descr="CHESS2"/>
            <p:cNvPicPr/>
            <p:nvPr/>
          </p:nvPicPr>
          <p:blipFill>
            <a:blip r:embed="rId2"/>
            <a:stretch/>
          </p:blipFill>
          <p:spPr>
            <a:xfrm>
              <a:off x="243000" y="1797120"/>
              <a:ext cx="1587240" cy="1676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89" name="Picture 25" descr="COMPASS2"/>
            <p:cNvPicPr/>
            <p:nvPr/>
          </p:nvPicPr>
          <p:blipFill>
            <a:blip r:embed="rId3"/>
            <a:stretch/>
          </p:blipFill>
          <p:spPr>
            <a:xfrm>
              <a:off x="243000" y="3481560"/>
              <a:ext cx="1589040" cy="28224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90" name="Picture 26" descr="HOURGLASS2"/>
            <p:cNvPicPr/>
            <p:nvPr/>
          </p:nvPicPr>
          <p:blipFill>
            <a:blip r:embed="rId4"/>
            <a:stretch/>
          </p:blipFill>
          <p:spPr>
            <a:xfrm>
              <a:off x="1849320" y="1795320"/>
              <a:ext cx="2438640" cy="4510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A57-79FC-4F71-95B3-F1CEF42D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133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46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5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6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grpSp>
        <p:nvGrpSpPr>
          <p:cNvPr id="157" name="Oval 31"/>
          <p:cNvGrpSpPr/>
          <p:nvPr/>
        </p:nvGrpSpPr>
        <p:grpSpPr>
          <a:xfrm>
            <a:off x="7905600" y="6381720"/>
            <a:ext cx="946440" cy="415800"/>
            <a:chOff x="7905600" y="6381720"/>
            <a:chExt cx="946440" cy="415800"/>
          </a:xfrm>
        </p:grpSpPr>
        <p:pic>
          <p:nvPicPr>
            <p:cNvPr id="158" name="Oval 31" descr=""/>
            <p:cNvPicPr/>
            <p:nvPr/>
          </p:nvPicPr>
          <p:blipFill>
            <a:blip r:embed="rId5"/>
            <a:stretch/>
          </p:blipFill>
          <p:spPr>
            <a:xfrm>
              <a:off x="7905600" y="6381720"/>
              <a:ext cx="9464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058240" y="6456240"/>
              <a:ext cx="6476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c6d1d"/>
                </a:solidFill>
                <a:latin typeface="Myriad Web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03B6-B566-4B49-84D7-D95D2E5D37A4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SI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axation (pays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starting (each state has its own rules for a corporate cha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arger, more bureaucratic than other form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governm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ypes of Corpo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Most corporations are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C corporations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, which are taxed as an entity by the federal govern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subchapter S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differs from a C corporation in how it is taxed. It is not taxed as an entity, rather its income or loss is applied to each shareholder and appears on their tax retur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limited liability company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similar to a C corporation, but with simpler operating requirements and tax procedures and greater liability protection for the business ow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nonprofit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in which the company operates not to provide profit for its shareholders but to serve the good of socie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D71D-C532-4330-93D6-1689DA6EE052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yp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your sit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trengths and weak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Corbel"/>
              </a:rPr>
              <a:t>Liability of Business Ow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Text Placeholder 2" descr=""/>
          <p:cNvPicPr/>
          <p:nvPr/>
        </p:nvPicPr>
        <p:blipFill>
          <a:blip r:embed="rId1"/>
          <a:stretch/>
        </p:blipFill>
        <p:spPr>
          <a:xfrm>
            <a:off x="225360" y="1378080"/>
            <a:ext cx="8961480" cy="243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7200" y="2971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Un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 be legally forced to use personal money and possessions to pay the debt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not be legally forced to use personal money and possessions to pay business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137-9483-4F48-A13D-AB1E5FA6C18F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and managed by one individual who receives all the profits and bears all the los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starting and going out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profits and busin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aising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all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knowledge may be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usiness that is owned and managed by two or more individuals who receive all the profits and bear all the lo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raise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may combine manager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nflict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stability after death of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by stockholders and has rights and responsibilities as if it were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7:58Z</dcterms:created>
  <dc:creator>Trial User</dc:creator>
  <dc:description/>
  <dc:language>en-US</dc:language>
  <cp:lastModifiedBy>NHBOE</cp:lastModifiedBy>
  <dcterms:modified xsi:type="dcterms:W3CDTF">2015-09-02T19:44:23Z</dcterms:modified>
  <cp:revision>6</cp:revision>
  <dc:subject/>
  <dc:title>TYPES OF BUSINESSES</dc:title>
</cp:coreProperties>
</file>